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4.jpeg" ContentType="image/jpeg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082D9-B7F6-463A-89E6-A354E9F7D93C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E2A24-93FB-47EC-B3B8-AD51DE3DD432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688C-F061-474B-A7C9-E8ED29872BB1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E84C1-F765-4240-8497-2012918ECDE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Espaço Reservado para Número de Slide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4E220-F82C-4014-8881-98D486E161DD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0918-1D35-4ADC-BC36-E982EBA5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C054-2186-4B34-B3F9-0B902FDE3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1C3-BFD7-4F26-93D5-BD724970A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C64E-B1E2-4297-84AA-4C8F8A5C8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A76B-59C9-4024-9337-6C4A25E1D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98E4-91D6-43A5-9E12-0A2677CE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EC756-5293-4393-88EF-1F87DCFB7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AAA9-E3E1-4EF5-8540-B85BBCFC1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868F1-CD09-4C8D-8541-5EBDFED1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7DC-CFFD-4400-B31E-FE82D2F3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CF3E4-65F2-4736-A6E7-A633B549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04B4-B4DE-444C-AA72-554FFF57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DEC91-4D90-454D-91D6-8803726E4C80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Imagem 2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 e 2017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dcterms:modified xsi:type="dcterms:W3CDTF">2019-02-27T21:02:25Z</dcterms:modified>
  <cp:revision>23</cp:revision>
  <dc:subject/>
  <dc:title>Apresentação do PowerPoint</dc:title>
</cp:coreProperties>
</file>